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E4C-114C-4046-AC11-C5EEAC1D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2C9-8A50-47C9-B647-683A7762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33F-3276-44FF-BBC1-7C5D0301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D37-5ED7-4E38-A457-34CA2B6C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CFA1-95E4-4673-885A-CA5539D9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6281-5AF7-40D2-A9DD-98A1AC15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8B46-088A-4135-8A72-B1F6CD73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AD43-F652-4DEB-8585-655E425A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BDDF-6A58-451C-BCB6-DDC41D69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35B7-9132-4D6B-ACC7-69791813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9BD8-B8A4-4401-B3AF-B536635C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ABA-C627-4238-ABB5-B5E7E082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270C-1772-4339-A704-7BF5F6E2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045F-7A38-432C-A93E-A91F4FCF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B3CB-0CF6-476A-8DF9-9B8D91F7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057B-5CCF-4232-81AE-363B3043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AB09-861B-4EBB-BEE4-59834D79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12F1E-F3E9-4C07-9096-5A9A1430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FDDA-CB18-4EE7-9248-1589F4EC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6BE47-C6BF-4C36-9AAE-61BE23AB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0AA6-A099-482D-8762-2455CFFB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72F2-65B7-4DE9-8444-DDC1585E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0F8-66E0-4DB0-80C2-378974A9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FD5D-E40F-4973-97E4-9639315E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E158-23E0-4F54-840C-59FEE5AA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26DB-A252-4057-8845-40D0BC51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483E-5973-42AC-9732-A61C45A2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4054-06FD-4282-BDEA-DF7336E9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1CF6-D94A-43D7-A8ED-DB110270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0DF3-8FD5-46D1-B21C-DDB27507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7C24-DEFC-44B1-A52C-44E2961B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64EC-A5E2-4E00-8B99-D383C51A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205F0-ABB0-4A51-9E0B-633FDEF3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56B-0925-47CD-8EE6-40E7C35E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07A2B-23C2-478F-98EC-7A4E5E8F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5065-9FC7-4D16-AE3D-5CD786DD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055E-616E-4BA5-B92A-8130BF0F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1A84A-20EA-4969-B335-3AB1C763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3A6F-01B0-4615-8DBD-3BF136BA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AC72-0FBB-439D-B2AD-A1CEE7AB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95DA0-E3C6-42C4-B796-31BD45CD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EC041-DF5A-4625-9848-84164964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A734E-A809-480D-91C2-C2D56DD3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A3D9-DDF0-4395-93AE-994B50FA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9A2-ADB0-421A-B9C0-070208EA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3A7A-A240-4DA5-9E04-5FD71546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ED3C1-A6BB-4882-B3F3-626F88AD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9C26-139B-4915-B95F-EB106E5F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075E4-832C-4166-99F8-A8C4600E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DFB9C-A30B-4400-8626-D88CD87A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D1346-7DFA-41CC-A42D-FE03379A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B1DD-B244-4E64-B177-E855106C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A6139-E027-41EB-A958-F3CFB4A9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70A8A-6890-4A03-A662-F05FECF4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78615-86C3-4991-93E3-F8CC167F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EBC-EB92-401E-BDC2-CF3F9B11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C5D52-D9DB-4144-A303-85F4DB82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58B7D-A10D-42AF-8973-EC154C97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49EB-9DC9-44E8-B275-53A6E197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DDE84-B81A-47AA-961D-296B4DED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D463A-9D4C-43DC-9A06-8623F4AA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AE9B0-B6BE-4BEE-814A-41E8E3AA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5DF42-3F72-4123-9E4E-CBA456B2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CCF63-2442-4F00-A655-DF5261D0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BDFDC-B61D-4201-A734-9956842A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E6FE1-DEBA-499B-AFEF-096627FA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35E-1131-4080-B689-9780B76B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540FF-4776-4524-A576-72BEB92D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0B266-31D7-4BF5-9360-9BCFA99D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7E4B5-0A39-4D09-A112-714FF2E2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37B8D-3C15-48B0-8284-3B24E08E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328A3-1B28-4138-A570-6C5C5A6A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63F2E-3D52-4A80-98EB-31D43562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D8B34-F183-41BE-9268-8A51C31D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D5D54-7D9C-4C8B-8EFC-0276C153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443E5-EEDB-40BF-B95A-B574312B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509C1-DFF5-4950-A446-1151667C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770-E2DB-4E58-9E02-A8B47492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EF20D-65D6-4801-A349-2491E3CA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090BC-E96B-4B05-A314-822DF3FC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B4A5-B2C8-4E58-BD5E-F18EA333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66012-E3EC-4E4A-BF9E-42670C7D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6B82F-6667-433F-B6E1-A4AAA511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78BF7-5CD5-4756-9ED5-B499BAAD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F0A2B-4C76-40F1-91C9-0705AAB2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52731-A2F5-4B77-8289-7CB52A4B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D90E5-2ED2-487D-BBA5-84C95018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A13C9-0846-4C0B-A69A-16E7AEF5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D51-B716-4581-A581-3ECAB1A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B0DF2-9374-455C-81AA-C48A4D0A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E1442-6A8F-4FCB-A774-A91F5B1D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99EED-AA1B-4E25-80AA-9FF63A8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C58AC-D7C8-469B-A035-2C182987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8619F-5477-4357-A3F4-CD17BBC2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9171-F5EF-4CE3-A6B8-0A7BCB87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0341F-315D-4823-9829-59AEB062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D697-3BAC-4708-AEC5-6A3F4131AD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6B1C-F5D3-4372-B71C-BC10EA0B56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0760" y="2955960"/>
            <a:ext cx="334800" cy="377640"/>
            <a:chOff x="3560760" y="2955960"/>
            <a:chExt cx="3348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3560760" y="295596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11" name="Нашивка 15"/>
          <p:cNvGrpSpPr/>
          <p:nvPr/>
        </p:nvGrpSpPr>
        <p:grpSpPr>
          <a:xfrm>
            <a:off x="3371760" y="2955960"/>
            <a:ext cx="335160" cy="377640"/>
            <a:chOff x="3371760" y="2955960"/>
            <a:chExt cx="335160" cy="377640"/>
          </a:xfrm>
        </p:grpSpPr>
        <p:pic>
          <p:nvPicPr>
            <p:cNvPr id="112" name="Нашивка 15" descr=""/>
            <p:cNvPicPr/>
            <p:nvPr/>
          </p:nvPicPr>
          <p:blipFill>
            <a:blip r:embed="rId6"/>
            <a:stretch/>
          </p:blipFill>
          <p:spPr>
            <a:xfrm>
              <a:off x="3371760" y="2955960"/>
              <a:ext cx="3351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1C7D-6D9C-431B-8AAC-57AF57F4BE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400-AAE7-48A8-8292-D05160570D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1F3E-87F8-44A3-A4E2-FD48CDE786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5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5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5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B24F-C672-4D54-BF2B-2FD67E4E63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B139-4E08-49F8-9B17-890F219754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9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51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52" name="Прямоугольный треугольник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54" name="Прямая соединительная линия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355" name="Нашивка 19"/>
          <p:cNvGrpSpPr/>
          <p:nvPr/>
        </p:nvGrpSpPr>
        <p:grpSpPr>
          <a:xfrm>
            <a:off x="8583480" y="4937040"/>
            <a:ext cx="335160" cy="378000"/>
            <a:chOff x="8583480" y="4937040"/>
            <a:chExt cx="335160" cy="378000"/>
          </a:xfrm>
        </p:grpSpPr>
        <p:pic>
          <p:nvPicPr>
            <p:cNvPr id="356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58348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58" name="Нашивка 20"/>
          <p:cNvGrpSpPr/>
          <p:nvPr/>
        </p:nvGrpSpPr>
        <p:grpSpPr>
          <a:xfrm>
            <a:off x="8400960" y="4937040"/>
            <a:ext cx="335160" cy="378000"/>
            <a:chOff x="8400960" y="4937040"/>
            <a:chExt cx="335160" cy="378000"/>
          </a:xfrm>
        </p:grpSpPr>
        <p:pic>
          <p:nvPicPr>
            <p:cNvPr id="359" name="Нашивка 20" descr=""/>
            <p:cNvPicPr/>
            <p:nvPr/>
          </p:nvPicPr>
          <p:blipFill>
            <a:blip r:embed="rId8"/>
            <a:stretch/>
          </p:blipFill>
          <p:spPr>
            <a:xfrm>
              <a:off x="840096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8ECC-9A9E-44EB-8D76-B81168419A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590400" y="2193840"/>
            <a:ext cx="8382240" cy="22449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3" descr="133.jpg"/>
          <p:cNvPicPr/>
          <p:nvPr/>
        </p:nvPicPr>
        <p:blipFill>
          <a:blip r:embed="rId2"/>
          <a:stretch/>
        </p:blipFill>
        <p:spPr>
          <a:xfrm>
            <a:off x="-30240" y="-103320"/>
            <a:ext cx="2992680" cy="28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Что такое «десятичные дроби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Как складывать десятичные дроб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Как вычитать десятичные дроб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Важность данной темы  в нашей жизн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Отличать десятичные дроби от обыкновенных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Складывать десятичные дроб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Вычитать десятичные дроб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3" descr="888.jpg"/>
          <p:cNvPicPr/>
          <p:nvPr/>
        </p:nvPicPr>
        <p:blipFill>
          <a:blip r:embed="rId1"/>
          <a:stretch/>
        </p:blipFill>
        <p:spPr>
          <a:xfrm>
            <a:off x="115920" y="-23760"/>
            <a:ext cx="2975040" cy="3267000"/>
          </a:xfrm>
          <a:prstGeom prst="rect">
            <a:avLst/>
          </a:prstGeom>
          <a:ln w="0">
            <a:noFill/>
          </a:ln>
        </p:spPr>
      </p:pic>
      <p:pic>
        <p:nvPicPr>
          <p:cNvPr id="409" name="Заголовок 2" descr=""/>
          <p:cNvPicPr/>
          <p:nvPr/>
        </p:nvPicPr>
        <p:blipFill>
          <a:blip r:embed="rId2"/>
          <a:stretch/>
        </p:blipFill>
        <p:spPr>
          <a:xfrm>
            <a:off x="2664000" y="493560"/>
            <a:ext cx="6211800" cy="115920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5" descr=""/>
          <p:cNvPicPr/>
          <p:nvPr/>
        </p:nvPicPr>
        <p:blipFill>
          <a:blip r:embed="rId3"/>
          <a:stretch/>
        </p:blipFill>
        <p:spPr>
          <a:xfrm>
            <a:off x="731880" y="3164040"/>
            <a:ext cx="79912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Содержимое 3" descr="2.jpg"/>
          <p:cNvPicPr/>
          <p:nvPr/>
        </p:nvPicPr>
        <p:blipFill>
          <a:blip r:embed="rId1"/>
          <a:stretch/>
        </p:blipFill>
        <p:spPr>
          <a:xfrm>
            <a:off x="-23760" y="-23760"/>
            <a:ext cx="2419200" cy="3790800"/>
          </a:xfrm>
          <a:prstGeom prst="rect">
            <a:avLst/>
          </a:prstGeom>
          <a:ln w="0">
            <a:noFill/>
          </a:ln>
        </p:spPr>
      </p:pic>
      <p:pic>
        <p:nvPicPr>
          <p:cNvPr id="412" name="Заголовок 2" descr=""/>
          <p:cNvPicPr/>
          <p:nvPr/>
        </p:nvPicPr>
        <p:blipFill>
          <a:blip r:embed="rId2"/>
          <a:stretch/>
        </p:blipFill>
        <p:spPr>
          <a:xfrm>
            <a:off x="2919240" y="122400"/>
            <a:ext cx="6035760" cy="134136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4"/>
          <p:cNvSpPr/>
          <p:nvPr/>
        </p:nvSpPr>
        <p:spPr>
          <a:xfrm>
            <a:off x="2787840" y="1428840"/>
            <a:ext cx="27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0,56+0,19=0,7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2850480" y="1928880"/>
            <a:ext cx="372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,29+2,46=3,7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12,125+1,3=113,42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23,55+0,001=23,55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5+0,56=5,5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285840" y="4143240"/>
            <a:ext cx="80722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Чтобы сложить десятичные дроби нужно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равнять в этих дробях количество знаков после запятой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Записать их друг под другом так, чтобы запятая была записана под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Запятой. Выполнить сложение, не обращая внимания на запятую, поставит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ответе запятую под запятой в данных дробя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Содержимое 3" descr="OKSVAdrobi2-1.jpg"/>
          <p:cNvPicPr/>
          <p:nvPr/>
        </p:nvPicPr>
        <p:blipFill>
          <a:blip r:embed="rId1"/>
          <a:stretch/>
        </p:blipFill>
        <p:spPr>
          <a:xfrm>
            <a:off x="4827600" y="585720"/>
            <a:ext cx="4365720" cy="2144880"/>
          </a:xfrm>
          <a:prstGeom prst="rect">
            <a:avLst/>
          </a:prstGeom>
          <a:ln w="0">
            <a:noFill/>
          </a:ln>
        </p:spPr>
      </p:pic>
      <p:pic>
        <p:nvPicPr>
          <p:cNvPr id="417" name="Заголовок 2" descr=""/>
          <p:cNvPicPr/>
          <p:nvPr/>
        </p:nvPicPr>
        <p:blipFill>
          <a:blip r:embed="rId2"/>
          <a:stretch/>
        </p:blipFill>
        <p:spPr>
          <a:xfrm>
            <a:off x="493560" y="493560"/>
            <a:ext cx="4486320" cy="19083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1379880" y="2714760"/>
            <a:ext cx="41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45,2-0,2=4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0,56-0,23=0,3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6,1-0,55=5,5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42,006-23,05=18,95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-322920" y="4714920"/>
            <a:ext cx="973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Чтобы вычесть десятичные дроби нужно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Уравнять в этих дробях количество знаков после запятой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Записать их друг под другом так, чтобы запятая была записана под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Запятой. Выполнить вычитание, не обращая внимания на запятую, поставит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в ответе запятую под запятой в данных дробях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7:25:31Z</dcterms:created>
  <dc:creator>Ольга</dc:creator>
  <dc:description/>
  <dc:language>en-US</dc:language>
  <cp:lastModifiedBy>26054</cp:lastModifiedBy>
  <dcterms:modified xsi:type="dcterms:W3CDTF">2010-05-31T11:10:02Z</dcterms:modified>
  <cp:revision>7</cp:revision>
  <dc:subject/>
  <dc:title>Сложение и вычитание  десятичных дробей</dc:title>
</cp:coreProperties>
</file>